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580-453C-4CA8-B019-9ADBD04F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0F1-256B-411E-8E87-4DC609B7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01A-D892-4859-B60B-EF13DCE2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4A5-2EA3-42B3-AEC1-2C6C385A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A42A-36EE-4462-8971-3016BF41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4A90-D1CB-4B79-953D-E93D8BE5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A03D-FBC3-4933-9A3D-9246F698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CBED-F37B-48ED-BC24-806B5BD0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E2A-D838-4608-9AA0-273BE318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AD42-EEEC-49A2-8A6C-DE324C1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C68C-C902-4BD3-A31D-FD4E8E8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B4B-3B83-4890-A076-4660E64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DABE-CDE6-4D97-BE46-34BE2CF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E58B-070A-4047-9A69-8DBF2FF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4951-C9F2-4CEC-B939-90540A77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B5A5-1589-4845-993F-3081D0FB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CB38-85FC-4743-9D0E-3216385A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664-D6F1-4C61-9AAF-1DAB23F1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689-F815-4BDA-AD61-915F8CC0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3F3-8CF0-469D-B19D-89AB1A2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860-316F-44B4-8698-173C7E89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7AD-66D5-4713-874E-20EE4D1C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0DE-0278-429A-96D4-8FEF3AE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5BF-F01A-4F1D-A754-5962ADC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684-CDD5-4399-A2E7-6491656288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3B9-F448-4BD1-9CD9-697B0323B14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necook@earthlink.net" TargetMode="External"/><Relationship Id="rId2" Type="http://schemas.openxmlformats.org/officeDocument/2006/relationships/hyperlink" Target="mailto:mcrowley@eastconn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crel.org/sdrs/areas/issues/students/learning/lr1kwlh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Writing Grants That Get Resul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352680"/>
            <a:ext cx="564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esented by Jane Coo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ASTCONN Staff Development Specialis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hone:  860-455-0707, ext. 30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-mail: 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janecook@earthlink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nd Maureen Crowle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ASCONN Director of Planning &amp; Developm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hone:  860-455-0707, ext. 33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-mail: 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mcrowley@eastconn.org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king Like a Grant Reader: 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Questions to Ask Before Submitting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Before Copy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filled out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ver shee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gotten the requir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ignatur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complet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l required section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s my writing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lear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ncise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with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 spelling or grammar error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umbered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ll of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g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stayed within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ge limi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requirements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reviewed the rubric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(or checklist) to make sure that I hav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et all of the requirement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to receive a highest possible score for each section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includ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l assurances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ith appropriate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signatur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ve I include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partnership agreements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letters of suppor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, if required?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re the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ppendice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lowed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ecessary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elf-explanatory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king Like a Grant Reader: 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Questions to Ask Before Submitting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Before Mail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I included th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origina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roposal signed with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blue ink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I included th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required number of copie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688680"/>
            <a:ext cx="8384400" cy="5902200"/>
            <a:chOff x="0" y="688680"/>
            <a:chExt cx="8384400" cy="5902200"/>
          </a:xfrm>
        </p:grpSpPr>
        <p:grpSp>
          <p:nvGrpSpPr>
            <p:cNvPr id="216" name=""/>
            <p:cNvGrpSpPr/>
            <p:nvPr/>
          </p:nvGrpSpPr>
          <p:grpSpPr>
            <a:xfrm>
              <a:off x="3931200" y="688680"/>
              <a:ext cx="4453200" cy="5768640"/>
              <a:chOff x="3931200" y="688680"/>
              <a:chExt cx="4453200" cy="5768640"/>
            </a:xfrm>
          </p:grpSpPr>
          <p:sp>
            <p:nvSpPr>
              <p:cNvPr id="217" name=""/>
              <p:cNvSpPr/>
              <p:nvPr/>
            </p:nvSpPr>
            <p:spPr>
              <a:xfrm>
                <a:off x="3986640" y="3417120"/>
                <a:ext cx="940320" cy="44100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Write grant proposal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94920" y="4184280"/>
                <a:ext cx="939600" cy="44100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Secure appropriate signatures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70040" y="2193480"/>
                <a:ext cx="1314360" cy="925920"/>
              </a:xfrm>
              <a:prstGeom prst="flowChartProcess">
                <a:avLst/>
              </a:prstGeom>
              <a:solidFill>
                <a:srgbClr val="ffcccc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Start a list of possible funding sources with their deadlines that you can use in the future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947400" y="2078640"/>
                <a:ext cx="2604600" cy="1338120"/>
                <a:chOff x="3947400" y="2078640"/>
                <a:chExt cx="2604600" cy="1338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540760" y="2404800"/>
                  <a:ext cx="1011240" cy="431280"/>
                </a:xfrm>
                <a:prstGeom prst="flowChartProcess">
                  <a:avLst/>
                </a:prstGeom>
                <a:solidFill>
                  <a:srgbClr val="fff2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Research a new funding source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47400" y="2078640"/>
                  <a:ext cx="1019880" cy="1082880"/>
                </a:xfrm>
                <a:prstGeom prst="flowChartDecision">
                  <a:avLst/>
                </a:prstGeom>
                <a:solidFill>
                  <a:srgbClr val="cee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Can I meet the deadline?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23" name=""/>
                <p:cNvCxnSpPr/>
                <p:nvPr/>
              </p:nvCxnSpPr>
              <p:spPr>
                <a:xfrm>
                  <a:off x="4966920" y="2624400"/>
                  <a:ext cx="5738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4" name=""/>
                <p:cNvCxnSpPr/>
                <p:nvPr/>
              </p:nvCxnSpPr>
              <p:spPr>
                <a:xfrm>
                  <a:off x="4456440" y="3161160"/>
                  <a:ext cx="1080" cy="255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225" name=""/>
              <p:cNvCxnSpPr/>
              <p:nvPr/>
            </p:nvCxnSpPr>
            <p:spPr>
              <a:xfrm>
                <a:off x="4456440" y="3858120"/>
                <a:ext cx="7920" cy="326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6" name=""/>
              <p:cNvCxnSpPr/>
              <p:nvPr/>
            </p:nvCxnSpPr>
            <p:spPr>
              <a:xfrm>
                <a:off x="4464000" y="4624920"/>
                <a:ext cx="1080" cy="458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27" name=""/>
              <p:cNvGrpSpPr/>
              <p:nvPr/>
            </p:nvGrpSpPr>
            <p:grpSpPr>
              <a:xfrm>
                <a:off x="3931200" y="721080"/>
                <a:ext cx="2604600" cy="1083600"/>
                <a:chOff x="3931200" y="721080"/>
                <a:chExt cx="2604600" cy="10836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524560" y="1047240"/>
                  <a:ext cx="1011240" cy="431280"/>
                </a:xfrm>
                <a:prstGeom prst="flowChartProcess">
                  <a:avLst/>
                </a:prstGeom>
                <a:solidFill>
                  <a:srgbClr val="fff2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Research a new funding source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31200" y="721080"/>
                  <a:ext cx="1019880" cy="1083600"/>
                </a:xfrm>
                <a:prstGeom prst="flowChartDecision">
                  <a:avLst/>
                </a:prstGeom>
                <a:solidFill>
                  <a:srgbClr val="cee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160" rIns="83160" tIns="41760" bIns="41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Am I likely to receive funding?</a:t>
                  </a:r>
                  <a:endParaRPr b="0" lang="en-US" sz="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"/>
                <p:cNvCxnSpPr/>
                <p:nvPr/>
              </p:nvCxnSpPr>
              <p:spPr>
                <a:xfrm>
                  <a:off x="4950720" y="1266480"/>
                  <a:ext cx="5738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31" name=""/>
              <p:cNvSpPr/>
              <p:nvPr/>
            </p:nvSpPr>
            <p:spPr>
              <a:xfrm>
                <a:off x="3994920" y="5083200"/>
                <a:ext cx="939600" cy="44100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Make required copies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31200" y="5901840"/>
                <a:ext cx="1075320" cy="555480"/>
              </a:xfrm>
              <a:prstGeom prst="flowChartPredefinedProcess">
                <a:avLst/>
              </a:prstGeom>
              <a:solidFill>
                <a:srgbClr val="d5eb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Submit grant proposal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33" name=""/>
              <p:cNvCxnSpPr/>
              <p:nvPr/>
            </p:nvCxnSpPr>
            <p:spPr>
              <a:xfrm flipH="1">
                <a:off x="4456440" y="5523840"/>
                <a:ext cx="7920" cy="37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4" name=""/>
              <p:cNvCxnSpPr/>
              <p:nvPr/>
            </p:nvCxnSpPr>
            <p:spPr>
              <a:xfrm>
                <a:off x="4453560" y="1730520"/>
                <a:ext cx="7920" cy="326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3931200" y="688680"/>
                <a:ext cx="418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31200" y="1962000"/>
                <a:ext cx="41832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31200" y="3119400"/>
                <a:ext cx="41832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72600" y="1035720"/>
                <a:ext cx="33048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2600" y="2309040"/>
                <a:ext cx="33048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70040" y="2193480"/>
                <a:ext cx="104040" cy="925920"/>
              </a:xfrm>
              <a:custGeom>
                <a:avLst/>
                <a:gdLst>
                  <a:gd name="textAreaLeft" fmla="*/ 30600 w 104040"/>
                  <a:gd name="textAreaRight" fmla="*/ 104400 w 104040"/>
                  <a:gd name="textAreaTop" fmla="*/ 38520 h 925920"/>
                  <a:gd name="textAreaBottom" fmla="*/ 887400 h 9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41" name=""/>
              <p:cNvCxnSpPr/>
              <p:nvPr/>
            </p:nvCxnSpPr>
            <p:spPr>
              <a:xfrm>
                <a:off x="6550920" y="2631600"/>
                <a:ext cx="511560" cy="13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42" name=""/>
              <p:cNvSpPr/>
              <p:nvPr/>
            </p:nvSpPr>
            <p:spPr>
              <a:xfrm>
                <a:off x="5604480" y="5086080"/>
                <a:ext cx="1020960" cy="546840"/>
              </a:xfrm>
              <a:prstGeom prst="flowChartPredefinedProcess">
                <a:avLst/>
              </a:prstGeom>
              <a:solidFill>
                <a:srgbClr val="d5eb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160" rIns="83160" tIns="41760" bIns="41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ook for other potential funders</a:t>
                </a:r>
                <a:endParaRPr b="0" lang="en-US" sz="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43" name=""/>
              <p:cNvCxnSpPr/>
              <p:nvPr/>
            </p:nvCxnSpPr>
            <p:spPr>
              <a:xfrm>
                <a:off x="4928760" y="5342400"/>
                <a:ext cx="700200" cy="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44" name=""/>
            <p:cNvGrpSpPr/>
            <p:nvPr/>
          </p:nvGrpSpPr>
          <p:grpSpPr>
            <a:xfrm>
              <a:off x="0" y="1498320"/>
              <a:ext cx="3106800" cy="4802760"/>
              <a:chOff x="0" y="1498320"/>
              <a:chExt cx="3106800" cy="4802760"/>
            </a:xfrm>
          </p:grpSpPr>
          <p:sp>
            <p:nvSpPr>
              <p:cNvPr id="245" name=""/>
              <p:cNvSpPr/>
              <p:nvPr/>
            </p:nvSpPr>
            <p:spPr>
              <a:xfrm>
                <a:off x="1843920" y="5462280"/>
                <a:ext cx="1188000" cy="47232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Research a new funding source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46" name=""/>
              <p:cNvCxnSpPr/>
              <p:nvPr/>
            </p:nvCxnSpPr>
            <p:spPr>
              <a:xfrm>
                <a:off x="1169640" y="5702760"/>
                <a:ext cx="674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7" name=""/>
              <p:cNvSpPr/>
              <p:nvPr/>
            </p:nvSpPr>
            <p:spPr>
              <a:xfrm>
                <a:off x="0" y="5114520"/>
                <a:ext cx="1198080" cy="1186560"/>
              </a:xfrm>
              <a:prstGeom prst="flowChartDecision">
                <a:avLst/>
              </a:prstGeom>
              <a:solidFill>
                <a:srgbClr val="cee1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Am I eligible to apply?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46800" y="1498320"/>
                <a:ext cx="3060000" cy="1465200"/>
                <a:chOff x="46800" y="1498320"/>
                <a:chExt cx="3060000" cy="1465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11960" y="2674080"/>
                  <a:ext cx="448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Yes</a:t>
                  </a:r>
                  <a:endParaRPr b="0" lang="en-US" sz="1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917720" y="1855080"/>
                  <a:ext cx="1189080" cy="471240"/>
                </a:xfrm>
                <a:prstGeom prst="flowChartProcess">
                  <a:avLst/>
                </a:prstGeom>
                <a:solidFill>
                  <a:srgbClr val="fff2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ahoma"/>
                    </a:rPr>
                    <a:t>Rethink your project.</a:t>
                  </a:r>
                  <a:endParaRPr b="0" lang="en-US" sz="9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800" y="1498320"/>
                  <a:ext cx="1198080" cy="1185480"/>
                </a:xfrm>
                <a:prstGeom prst="flowChartDecision">
                  <a:avLst/>
                </a:prstGeom>
                <a:solidFill>
                  <a:srgbClr val="cee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ahoma"/>
                    </a:rPr>
                    <a:t>Do I have a worthy project? </a:t>
                  </a:r>
                  <a:endParaRPr b="0" lang="en-US" sz="9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52" name=""/>
                <p:cNvCxnSpPr/>
                <p:nvPr/>
              </p:nvCxnSpPr>
              <p:spPr>
                <a:xfrm>
                  <a:off x="1244520" y="2095920"/>
                  <a:ext cx="67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3" name=""/>
                <p:cNvSpPr/>
                <p:nvPr/>
              </p:nvSpPr>
              <p:spPr>
                <a:xfrm>
                  <a:off x="1281960" y="1883880"/>
                  <a:ext cx="35460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</a:t>
                  </a:r>
                  <a:endParaRPr b="0" lang="en-US" sz="1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cxnSp>
              <p:nvCxnSpPr>
                <p:cNvPr id="254" name=""/>
                <p:cNvCxnSpPr/>
                <p:nvPr/>
              </p:nvCxnSpPr>
              <p:spPr>
                <a:xfrm>
                  <a:off x="644760" y="2683440"/>
                  <a:ext cx="1080" cy="280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55" name=""/>
              <p:cNvSpPr/>
              <p:nvPr/>
            </p:nvSpPr>
            <p:spPr>
              <a:xfrm>
                <a:off x="1900080" y="3457800"/>
                <a:ext cx="1188360" cy="651960"/>
              </a:xfrm>
              <a:prstGeom prst="flowChartProcess">
                <a:avLst/>
              </a:prstGeom>
              <a:solidFill>
                <a:srgbClr val="fff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Research a new funding source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720" y="2963520"/>
                <a:ext cx="1198080" cy="1640520"/>
              </a:xfrm>
              <a:prstGeom prst="flowChartDecision">
                <a:avLst/>
              </a:prstGeom>
              <a:solidFill>
                <a:srgbClr val="cee1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Does my project match the funder's goals?</a:t>
                </a:r>
                <a:endParaRPr b="0" lang="en-US" sz="9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57" name=""/>
              <p:cNvCxnSpPr/>
              <p:nvPr/>
            </p:nvCxnSpPr>
            <p:spPr>
              <a:xfrm>
                <a:off x="1225800" y="3790440"/>
                <a:ext cx="674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111960" y="4555440"/>
                <a:ext cx="45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cxnSp>
            <p:nvCxnSpPr>
              <p:cNvPr id="259" name=""/>
              <p:cNvCxnSpPr>
                <a:stCxn id="256" idx="2"/>
                <a:endCxn id="247" idx="0"/>
              </p:cNvCxnSpPr>
              <p:nvPr/>
            </p:nvCxnSpPr>
            <p:spPr>
              <a:xfrm flipH="1">
                <a:off x="599040" y="4603680"/>
                <a:ext cx="2844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1235160" y="3514320"/>
                <a:ext cx="35244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35160" y="5366880"/>
                <a:ext cx="35244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561240" y="630972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240" y="6590880"/>
              <a:ext cx="29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481920" y="1266840"/>
              <a:ext cx="0" cy="53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81920" y="12668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57200" y="3808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Grant Writing Flowchart</a:t>
            </a:r>
            <a:br>
              <a:rPr sz="2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eveloped by Jane Cook</a:t>
            </a: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age 6 in handout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urning Questions??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99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95280" y="304920"/>
            <a:ext cx="5232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  <a:ea typeface="Arial"/>
              </a:rPr>
              <a:t>K-W-L-H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 </a:t>
            </a:r>
            <a:r>
              <a:rPr b="0" lang="en-US" sz="1200" spc="-1" strike="noStrike" u="sng">
                <a:solidFill>
                  <a:srgbClr val="f0b854"/>
                </a:solidFill>
                <a:uFillTx/>
                <a:latin typeface="Arial"/>
                <a:ea typeface="Times New Roman"/>
                <a:hlinkClick r:id="rId1"/>
              </a:rPr>
              <a:t>http://www.ncrel.org/sdrs/areas/issues/students/learning/lr1kwlh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2438280"/>
          <a:ext cx="7232760" cy="4119840"/>
        </p:xfrm>
        <a:graphic>
          <a:graphicData uri="http://schemas.openxmlformats.org/drawingml/2006/table">
            <a:tbl>
              <a:tblPr/>
              <a:tblGrid>
                <a:gridCol w="1752480"/>
                <a:gridCol w="1981440"/>
                <a:gridCol w="1752480"/>
                <a:gridCol w="174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 Know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 Want to Find Ou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 Learne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Can I Learn More?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ies of information I expect to use: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14400" y="1371600"/>
            <a:ext cx="6019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eflect on why you’re here, what you already know and what you want to learn.  Write your reflections in the table on Page 2 in your handout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scribe with evidence your need or probl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scribe in concrete, compelling language your solu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flect planning, research and vision throughout your proposa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search grant funde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your goals and objectives match the grant funders'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strategic and creative:  Target your proposal to grant funders’ mission; do not limit your funding sourc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tablish a personal relationship with grant funder, if possib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diligent in attending to format details!  Practice true diligen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swer the questions you are asked.  State clearly and concisely your organization's needs and objectives. Write well; use proper grammar and correct spelling. Prepare an interesting, unique proposa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ways cover the following important criteria: project purpose, need, funds, evaluation (accountability and competence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swer these questions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o are you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w do you qualify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do you want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problem will you address and how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o will benefit and how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specific objectives will you accomplish and how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w will you measure your results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w does your funding request comply with the funder’s purpose, goals and objectiv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monstrate project logic and outcome, impact of funds, and suppor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ways follow the exact specifications of the funder application, Request for Proposals (RFPs) or guideli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uidelines for Writing Gr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intain contact with funder about the status, evaluation, and outcome of your proposal, after submissio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quest feedback about your proposal, even when award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king Like a Grant Funder: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Things to Consider Before Applying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Eligibilit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kelihood of Being Funded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Worthines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Timelines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Achievabilit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uppor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6:44:23Z</dcterms:created>
  <dc:creator>jcook</dc:creator>
  <dc:description/>
  <dc:language>en-US</dc:language>
  <cp:lastModifiedBy>jcook</cp:lastModifiedBy>
  <dcterms:modified xsi:type="dcterms:W3CDTF">2008-10-16T16:45:59Z</dcterms:modified>
  <cp:revision>27</cp:revision>
  <dc:subject/>
  <dc:title>Grant Writing Flowchart Developed by Jane Cook </dc:title>
</cp:coreProperties>
</file>